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E3B-A6AA-47D4-B655-D6B4BDAE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31E-A588-465C-9EA0-DF489FC3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8EE-0418-4A62-ABB2-C9FC330D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81CC-CD19-4BF9-95C2-691E9400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972-865B-46B5-8BC2-8AFDCAAD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489-1484-452C-8079-18633185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78D-171C-4C56-BD5C-CB7AB91B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F96-9354-4D16-B52C-53CF599A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520-B0EB-43D2-9418-0A87BB11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D71-2F4D-4551-B911-3FEADDD1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8AE-3748-422C-8309-ADC70215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78E-6B5E-4DD2-BB2D-1123FB2B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E2D6-3B20-4828-9C8E-C6D945671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mall Wo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Parker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lack wolf’s name was 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438280" y="1649520"/>
            <a:ext cx="378648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asked Dom why he is living alone by himself in a c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838240" cy="2076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276720" cy="3398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3429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s Dom told Kino why he lived alone Kino noticed that Dom had a lot of scars and scrat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919240" y="2147760"/>
            <a:ext cx="33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m told Kino that has been attacked by many hunters and other animals but has always seemed to escape from th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919240" y="2147760"/>
            <a:ext cx="33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lived with Dom for many months after tha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30516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28386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e day while Dom was out hunting Kino heard many other wolf’s near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838240" cy="2076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3352680" y="1905120"/>
            <a:ext cx="51055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with those wolfs was Kino’s mom who was still looking for h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4264200" y="1828800"/>
            <a:ext cx="36226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ran to his mom and he was very happy she had found h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171880" y="2077920"/>
            <a:ext cx="4800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 came back and didn’t understand why there were all these wolfs by his 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3011760" cy="3124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886200" cy="2852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2438280" y="4419720"/>
            <a:ext cx="32767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saw Kino and his mom and then underst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305160" cy="3429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657600" y="1600200"/>
            <a:ext cx="4800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762120" y="533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a small and happy wo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071800" y="2390760"/>
            <a:ext cx="39193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said goodbye to Dom and then left to go h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6172200" y="1523880"/>
            <a:ext cx="2743200" cy="2846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1905120" y="3429000"/>
            <a:ext cx="40384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ttle wolf’s name was Ki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43200" y="2824200"/>
            <a:ext cx="32479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loved to play with his friends and his m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541680" cy="2590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3314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e day Kino got lost from his mom when he fell into a ri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42800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looked and looked for his mom but couldn’t find her at 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133720" y="2079720"/>
            <a:ext cx="426708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o was lost for many days and couldn’t find anything that looked famili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721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ino found a cave and went into it until a big black wolf appear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038480" y="1981080"/>
            <a:ext cx="39909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was scared but at the same time interested in the black wo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39909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5:11Z</dcterms:created>
  <dc:creator>itsuser</dc:creator>
  <dc:description/>
  <dc:language>en-US</dc:language>
  <cp:lastModifiedBy>itsuser</cp:lastModifiedBy>
  <dcterms:modified xsi:type="dcterms:W3CDTF">2009-04-09T17:24:22Z</dcterms:modified>
  <cp:revision>7</cp:revision>
  <dc:subject/>
  <dc:title>The Small Wolf</dc:title>
</cp:coreProperties>
</file>